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FB5DD-2419-4A40-B5CB-FD3229F44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3C3D1-A1E3-4A46-92F3-64FC9B4CC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636E2-0A74-44BB-B299-7E95D1629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E592C-C11A-4667-9BF8-859023E28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0BF1A-514B-423E-8866-3C2CE8E82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B2017-51A7-420C-BCFF-7222F08C5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7BC5F-E223-47A0-AC3C-727C9CE6E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22610-ED90-4AB1-889F-E79E7E750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EA688-4FCC-4B2A-BE94-2AD00DDCC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6CD1E-34DE-4382-9DE9-240D73E1C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A77A3-54ED-4961-B87B-659344EDA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60168-98FD-4CA3-99EB-4C9950DE3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19FBB-9608-4648-9A29-B15F18A2D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91C1D-9082-4C3A-9379-5234A85D2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07902-2758-4D3A-BFF9-ECFD6E5E8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540CA-E810-4FEA-A673-BDED4A125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CE698-35A5-46F6-9599-EC2A12332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2B9646-D528-4F73-B83F-FC9917F6AE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07FE38-4DB0-4019-83FE-BA6E1ECD1E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6B1E72-B571-48B6-BD4C-BD11931920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478627-4CF7-4A4D-8801-5F14669004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59B56F-872F-478F-8321-D07BF63073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2CE10-9198-4335-8342-F2DF7C3C8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57A29C-4A31-4FF5-B6C5-F2C173377F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71A4A9-46F5-49F8-BB19-852B5DE32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A7CCD6-C110-4EB9-8E9B-4337E6F3D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02104E-E66B-43A2-B542-7818E0877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500635-9ECA-47E3-B1AC-9E81E413F1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7BFEC8-1663-498F-844F-FF61F8B766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1C2FF7-E4DE-433E-ACF4-A78B67D11E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B35265-BDA1-4EDC-9851-F0C7C1B983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93D94F-75A0-4D32-8AC2-EAE7EDA3B0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BC97D6-A105-4A0A-AD7D-364841ACC7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5D7E2-A0F8-4712-BBAE-BADA69DA0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94043-3FA8-4C68-9DCE-CA9FA1AA5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2117AA-1E0B-45D0-BA9E-74169F1C92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7E3E41-EAFF-4C5C-B625-B9A0278B4E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BD1A5-CE6F-43FB-97FF-A310B55F2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754C6-A1F0-4FAE-A912-024457640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7FBA0-D53A-4CFE-AD1A-2A56D87725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4F4C0F-47FE-49DA-9ECA-ACD28CB0B7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6B0BC1-58FD-4193-94BD-CFD954F737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E7C75E-2B27-4701-AC20-74CFAD28A8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D263C8-F8AF-4D99-B8F1-19915DAA57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BF30A-85FD-4225-A25C-A0C3C0AB4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FA8670-DD99-4F6E-9053-236E8DA1ED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8D09EE-800C-4B93-90A7-C86F12822E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8BD77D-1838-4D2B-AE6E-8D8C8090AD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7D61C1-36DC-4490-8E53-226EFE20DF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19F6F6-3F6D-4E4B-8D3C-89718D8129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FC4DDD-7325-422B-A691-6D6E8FF720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EC4A71-ACE0-4D44-87F0-48FD7651D4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35729F-4E37-49F8-9E64-EE356AF6E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7F94FE-39F0-4134-9E1C-F2D3BC0AD9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FD24F8-CEB2-476E-83E5-0D4CC8D7DF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246CE-3E62-4F4C-BA83-D3C52DE8E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74F48C-061D-4041-A329-E9E09D5815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721F0C-68E1-4299-9356-00EB5058F2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ACA010-8953-4AB8-A1F3-A6A32CA220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2899D0-1397-4313-9BA4-871E53D32C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A1C3C2-0D7A-4766-98E0-03421E6D1E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905675-ED60-47B7-A975-39F1C62417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2B4FCE-634E-46D2-A3AF-CC46CA7265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63B67-8B74-4239-A36F-893E0C7E18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3444B4-DE3A-488F-96B5-CDE4A8170C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2BF29B-C6CC-49B8-9906-7B15A18D97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7D378-5B93-4849-B4B1-ABB8C626F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C7E1FA-FF9F-4417-8D40-F23672805C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399004-FAC5-47FE-9686-16C52C38D8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DAE078-647A-49E0-A139-B957634FE3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F0573-57DB-4E11-A454-ECFE58927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3CF6A-15A0-4161-A719-0A1C624B5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E5D2-6DAB-4EFB-A199-C90A2A005B62}" type="slidenum">
              <a:rPr b="0" lang="en-NZ"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073F-2B98-4AE3-A68F-181DDDF52498}" type="slidenum">
              <a:rPr b="0" lang="en-NZ"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9BCC-BB83-4FA5-BC60-590B624C0D98}" type="slidenum">
              <a:rPr b="0" lang="en-NZ"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57EE-211D-4706-9F39-BD6BBC882D93}" type="slidenum">
              <a:rPr b="0" lang="en-NZ"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4B3F-AE4D-4157-8E85-58EC3F0AFE38}" type="slidenum">
              <a:rPr b="0" lang="en-NZ"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AF19A-7EFF-4897-81EA-8C4BBB526ABB}" type="slidenum">
              <a:rPr b="0" lang="en-NZ"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uk/imgres?imgurl=http://www.drugpolicycentral.com/bot/images/hitler_bw01.gif&amp;imgrefurl=http://drugpolicycentral.com/bot/pg/propaganda/reefermindcontrol.htm&amp;h=393&amp;w=475&amp;sz=12&amp;hl=en&amp;start=19&amp;usg=__00ci4tLLUWYSWmZTalnITf2AlJE=&amp;tbnid=FIzUTwfqiVlPcM:&amp;tbnh=107&amp;tbnw=129&amp;prev=/images%3Fq%3Dhitler%2Band%2Bpropaganda%26start%3D18%26gbv%3D2%26ndsp%3D18%26hl%3Den%26sa%3DN"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tw.youtube.com/watch?v=jIF6hOy5LNg" TargetMode="External"/><Relationship Id="rId2" Type="http://schemas.openxmlformats.org/officeDocument/2006/relationships/hyperlink" Target="http://tw.youtube.com/watch?v=XXIe5GbLSUs"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20840" y="3108240"/>
            <a:ext cx="8308800" cy="253692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AZI PROPAGANDA</a:t>
            </a:r>
            <a:endParaRPr b="0" lang="en-US" sz="2000" spc="-1" strike="noStrike">
              <a:solidFill>
                <a:srgbClr val="ffffff"/>
              </a:solidFill>
              <a:latin typeface="Arial"/>
            </a:endParaRPr>
          </a:p>
        </p:txBody>
      </p:sp>
      <p:pic>
        <p:nvPicPr>
          <p:cNvPr id="256" name="Picture 2" descr="http://tbn0.google.com/images?q=tbn:FIzUTwfqiVlPcM:http://www.drugpolicycentral.com/bot/images/hitler_bw01.gif">
            <a:hlinkClick r:id="rId2"/>
          </p:cNvPr>
          <p:cNvPicPr/>
          <p:nvPr/>
        </p:nvPicPr>
        <p:blipFill>
          <a:blip r:embed="rId3"/>
          <a:stretch/>
        </p:blipFill>
        <p:spPr>
          <a:xfrm>
            <a:off x="446040" y="285840"/>
            <a:ext cx="3640320" cy="30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0" y="274680"/>
            <a:ext cx="3686040" cy="5154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ff"/>
                </a:solidFill>
                <a:latin typeface="Franklin Gothic Book"/>
              </a:rPr>
              <a:t>This 1940 poster advertises the worst of the Nazi anti-Semitic films, "The Eternal Jew." </a:t>
            </a:r>
            <a:endParaRPr b="0" lang="en-US" sz="4100" spc="-1" strike="noStrike">
              <a:solidFill>
                <a:srgbClr val="ffffff"/>
              </a:solidFill>
              <a:latin typeface="Franklin Gothic Book"/>
            </a:endParaRPr>
          </a:p>
        </p:txBody>
      </p:sp>
      <p:pic>
        <p:nvPicPr>
          <p:cNvPr id="281" name="" descr=""/>
          <p:cNvPicPr/>
          <p:nvPr/>
        </p:nvPicPr>
        <p:blipFill>
          <a:blip r:embed="rId1"/>
          <a:stretch/>
        </p:blipFill>
        <p:spPr>
          <a:xfrm>
            <a:off x="457200" y="1600200"/>
            <a:ext cx="257040" cy="4525920"/>
          </a:xfrm>
          <a:prstGeom prst="rect">
            <a:avLst/>
          </a:prstGeom>
          <a:ln w="0">
            <a:noFill/>
          </a:ln>
        </p:spPr>
      </p:pic>
      <p:pic>
        <p:nvPicPr>
          <p:cNvPr id="282" name="Picture 2" descr="http://www.calvin.edu/academic/cas/gpa/posters/ewige.jpg"/>
          <p:cNvPicPr/>
          <p:nvPr/>
        </p:nvPicPr>
        <p:blipFill>
          <a:blip r:embed="rId2"/>
          <a:stretch/>
        </p:blipFill>
        <p:spPr>
          <a:xfrm>
            <a:off x="785880" y="500040"/>
            <a:ext cx="3857400" cy="549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00720" y="274680"/>
            <a:ext cx="4186080" cy="55116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ffffff"/>
                </a:solidFill>
                <a:latin typeface="Franklin Gothic Book"/>
              </a:rPr>
              <a:t>This poster advertises a county rally of the Nazi Party from 1941 (a miniature version of the Nuremberg rally). A woman plows the field while her husband fights on the front</a:t>
            </a:r>
            <a:r>
              <a:rPr b="0" lang="en-NZ" sz="4600" spc="-1" strike="noStrike">
                <a:solidFill>
                  <a:srgbClr val="ffffff"/>
                </a:solidFill>
                <a:latin typeface="Franklin Gothic Book"/>
              </a:rPr>
              <a:t>. </a:t>
            </a:r>
            <a:endParaRPr b="0" lang="en-US" sz="4600" spc="-1" strike="noStrike">
              <a:solidFill>
                <a:srgbClr val="ffffff"/>
              </a:solidFill>
              <a:latin typeface="Franklin Gothic Book"/>
            </a:endParaRPr>
          </a:p>
        </p:txBody>
      </p:sp>
      <p:pic>
        <p:nvPicPr>
          <p:cNvPr id="284" name="" descr=""/>
          <p:cNvPicPr/>
          <p:nvPr/>
        </p:nvPicPr>
        <p:blipFill>
          <a:blip r:embed="rId1"/>
          <a:stretch/>
        </p:blipFill>
        <p:spPr>
          <a:xfrm>
            <a:off x="456840" y="1600200"/>
            <a:ext cx="1042920" cy="4525920"/>
          </a:xfrm>
          <a:prstGeom prst="rect">
            <a:avLst/>
          </a:prstGeom>
          <a:ln w="0">
            <a:noFill/>
          </a:ln>
        </p:spPr>
      </p:pic>
      <p:pic>
        <p:nvPicPr>
          <p:cNvPr id="285" name="Picture 2" descr="http://www.calvin.edu/academic/cas/gpa/posters/tolz41.gif"/>
          <p:cNvPicPr/>
          <p:nvPr/>
        </p:nvPicPr>
        <p:blipFill>
          <a:blip r:embed="rId2"/>
          <a:stretch/>
        </p:blipFill>
        <p:spPr>
          <a:xfrm>
            <a:off x="428760" y="428760"/>
            <a:ext cx="36432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071600" y="274320"/>
            <a:ext cx="4614840" cy="50115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ffffff"/>
                </a:solidFill>
                <a:latin typeface="Franklin Gothic Book"/>
              </a:rPr>
              <a:t>This looks to be a late-war recruiting poster for the SS, a time at which the Nazis were recruiting younger and younger soldiers. The caption doesn't translate directly, but means: "Enlist now!" A literal translation would be: "Especially you!" </a:t>
            </a:r>
            <a:endParaRPr b="0" lang="en-US" sz="3100" spc="-1" strike="noStrike">
              <a:solidFill>
                <a:srgbClr val="ffffff"/>
              </a:solidFill>
              <a:latin typeface="Franklin Gothic Book"/>
            </a:endParaRPr>
          </a:p>
        </p:txBody>
      </p:sp>
      <p:pic>
        <p:nvPicPr>
          <p:cNvPr id="287" name="" descr=""/>
          <p:cNvPicPr/>
          <p:nvPr/>
        </p:nvPicPr>
        <p:blipFill>
          <a:blip r:embed="rId1"/>
          <a:stretch/>
        </p:blipFill>
        <p:spPr>
          <a:xfrm>
            <a:off x="457200" y="1600200"/>
            <a:ext cx="2471760" cy="4525920"/>
          </a:xfrm>
          <a:prstGeom prst="rect">
            <a:avLst/>
          </a:prstGeom>
          <a:ln w="0">
            <a:noFill/>
          </a:ln>
        </p:spPr>
      </p:pic>
      <p:pic>
        <p:nvPicPr>
          <p:cNvPr id="288" name="Picture 2" descr="http://www.calvin.edu/academic/cas/gpa/posters/geradedu.jpg"/>
          <p:cNvPicPr/>
          <p:nvPr/>
        </p:nvPicPr>
        <p:blipFill>
          <a:blip r:embed="rId2"/>
          <a:stretch/>
        </p:blipFill>
        <p:spPr>
          <a:xfrm>
            <a:off x="285840" y="357120"/>
            <a:ext cx="3746520" cy="542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714560" y="274320"/>
            <a:ext cx="3971880" cy="59403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Franklin Gothic Book"/>
              </a:rPr>
              <a:t>This poster from fall 1943 also encourages silence. The caption: "Shame on you, chatterer! The enemy is listening. Silence is your duty." This was probably in colour, but the source I found it in was black and white.</a:t>
            </a:r>
            <a:endParaRPr b="0" lang="en-US" sz="2800" spc="-1" strike="noStrike">
              <a:solidFill>
                <a:srgbClr val="ffffff"/>
              </a:solidFill>
              <a:latin typeface="Franklin Gothic Book"/>
            </a:endParaRPr>
          </a:p>
        </p:txBody>
      </p:sp>
      <p:pic>
        <p:nvPicPr>
          <p:cNvPr id="290" name="" descr=""/>
          <p:cNvPicPr/>
          <p:nvPr/>
        </p:nvPicPr>
        <p:blipFill>
          <a:blip r:embed="rId1"/>
          <a:stretch/>
        </p:blipFill>
        <p:spPr>
          <a:xfrm>
            <a:off x="457200" y="1600200"/>
            <a:ext cx="471600" cy="4525920"/>
          </a:xfrm>
          <a:prstGeom prst="rect">
            <a:avLst/>
          </a:prstGeom>
          <a:ln w="0">
            <a:noFill/>
          </a:ln>
        </p:spPr>
      </p:pic>
      <p:pic>
        <p:nvPicPr>
          <p:cNvPr id="291" name="Picture 2" descr="http://www.calvin.edu/academic/cas/gpa/posters/goose.jpg"/>
          <p:cNvPicPr/>
          <p:nvPr/>
        </p:nvPicPr>
        <p:blipFill>
          <a:blip r:embed="rId2"/>
          <a:stretch/>
        </p:blipFill>
        <p:spPr>
          <a:xfrm>
            <a:off x="500040" y="428760"/>
            <a:ext cx="3933720" cy="594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714920" y="274680"/>
            <a:ext cx="4214880" cy="55116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Franklin Gothic Book"/>
              </a:rPr>
              <a:t>Before World War II began, Germans were allowed to listen to foreign radio broadcasts. This was banned once the war began, and by the end of the war people were executed for listing to enemy radio stations. In this poster, a Marxist looking chap broadcasts from London, Moscow, and other enemy states, while a German listens in the darkness, trying to conceal his crime.</a:t>
            </a:r>
            <a:endParaRPr b="0" lang="en-US" sz="2400" spc="-1" strike="noStrike">
              <a:solidFill>
                <a:srgbClr val="ffffff"/>
              </a:solidFill>
              <a:latin typeface="Franklin Gothic Book"/>
            </a:endParaRPr>
          </a:p>
        </p:txBody>
      </p:sp>
      <p:pic>
        <p:nvPicPr>
          <p:cNvPr id="293" name="" descr=""/>
          <p:cNvPicPr/>
          <p:nvPr/>
        </p:nvPicPr>
        <p:blipFill>
          <a:blip r:embed="rId1"/>
          <a:stretch/>
        </p:blipFill>
        <p:spPr>
          <a:xfrm>
            <a:off x="457200" y="1600200"/>
            <a:ext cx="1900080" cy="4525920"/>
          </a:xfrm>
          <a:prstGeom prst="rect">
            <a:avLst/>
          </a:prstGeom>
          <a:ln w="0">
            <a:noFill/>
          </a:ln>
        </p:spPr>
      </p:pic>
      <p:pic>
        <p:nvPicPr>
          <p:cNvPr id="294" name="Picture 2" descr="http://www.calvin.edu/academic/cas/gpa/posters/veraeter.jpg"/>
          <p:cNvPicPr/>
          <p:nvPr/>
        </p:nvPicPr>
        <p:blipFill>
          <a:blip r:embed="rId2"/>
          <a:stretch/>
        </p:blipFill>
        <p:spPr>
          <a:xfrm>
            <a:off x="357120" y="285840"/>
            <a:ext cx="4143600" cy="59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ff0000"/>
                </a:solidFill>
                <a:latin typeface="Franklin Gothic Book"/>
              </a:rPr>
              <a:t>Homework</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Read the information on each of Hitler’s SS commander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Find out more about them and complete a profile for the following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HIMMLE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GOEBBEL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Goring</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ffffff"/>
                </a:solidFill>
                <a:latin typeface="Franklin Gothic Book"/>
              </a:rPr>
              <a:t>AIMS TODAY</a:t>
            </a:r>
            <a:endParaRPr b="0" lang="en-US" sz="4600" spc="-1" strike="noStrike">
              <a:solidFill>
                <a:srgbClr val="ffffff"/>
              </a:solidFill>
              <a:latin typeface="Franklin Gothic Book"/>
            </a:endParaRPr>
          </a:p>
        </p:txBody>
      </p:sp>
      <p:sp>
        <p:nvSpPr>
          <p:cNvPr id="258" name=""/>
          <p:cNvSpPr txBox="1"/>
          <p:nvPr/>
        </p:nvSpPr>
        <p:spPr>
          <a:xfrm>
            <a:off x="456840" y="1599840"/>
            <a:ext cx="7467480" cy="304308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Define PROPAGANDA( agai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Study examples of Nazi Propagand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Categorise propaganda into ‘type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Explore the effectiveness of Nazi Propagand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ffffff"/>
                </a:solidFill>
                <a:latin typeface="Franklin Gothic Book"/>
              </a:rPr>
              <a:t>Propaganda</a:t>
            </a:r>
            <a:endParaRPr b="0" lang="en-US" sz="4600" spc="-1" strike="noStrike">
              <a:solidFill>
                <a:srgbClr val="ffffff"/>
              </a:solidFill>
              <a:latin typeface="Franklin Gothic Book"/>
            </a:endParaRPr>
          </a:p>
        </p:txBody>
      </p:sp>
      <p:sp>
        <p:nvSpPr>
          <p:cNvPr id="26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Write down this definition</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Rectangle 1"/>
          <p:cNvSpPr/>
          <p:nvPr/>
        </p:nvSpPr>
        <p:spPr>
          <a:xfrm>
            <a:off x="500040" y="2585880"/>
            <a:ext cx="778680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paganda is a set of messages aimed at </a:t>
            </a:r>
            <a:r>
              <a:rPr b="0" lang="en-US" sz="2800" spc="-1" strike="noStrike">
                <a:solidFill>
                  <a:srgbClr val="ff0000"/>
                </a:solidFill>
                <a:latin typeface="Arial"/>
                <a:ea typeface="Arial"/>
              </a:rPr>
              <a:t>influencing the opinions </a:t>
            </a:r>
            <a:r>
              <a:rPr b="0" lang="en-US" sz="2800" spc="-1" strike="noStrike">
                <a:solidFill>
                  <a:srgbClr val="ffffff"/>
                </a:solidFill>
                <a:latin typeface="Arial"/>
                <a:ea typeface="Arial"/>
              </a:rPr>
              <a:t>or behaviors of large numbers of people. Propaganda often presents facts </a:t>
            </a:r>
            <a:r>
              <a:rPr b="0" lang="en-US" sz="2800" spc="-1" strike="noStrike">
                <a:solidFill>
                  <a:srgbClr val="ff0000"/>
                </a:solidFill>
                <a:latin typeface="Arial"/>
                <a:ea typeface="Arial"/>
              </a:rPr>
              <a:t>selectively</a:t>
            </a:r>
            <a:r>
              <a:rPr b="0" lang="en-US" sz="2800" spc="-1" strike="noStrike">
                <a:solidFill>
                  <a:srgbClr val="ffffff"/>
                </a:solidFill>
                <a:latin typeface="Arial"/>
                <a:ea typeface="Arial"/>
              </a:rPr>
              <a:t> to encourage a particular view, or gives loaded messages in order to produce an </a:t>
            </a:r>
            <a:r>
              <a:rPr b="0" lang="en-US" sz="2800" spc="-1" strike="noStrike">
                <a:solidFill>
                  <a:srgbClr val="ff0000"/>
                </a:solidFill>
                <a:latin typeface="Arial"/>
                <a:ea typeface="Arial"/>
              </a:rPr>
              <a:t>emotional rather than rational response </a:t>
            </a:r>
            <a:r>
              <a:rPr b="0" lang="en-US" sz="2800" spc="-1" strike="noStrike">
                <a:solidFill>
                  <a:srgbClr val="ffffff"/>
                </a:solidFill>
                <a:latin typeface="Arial"/>
                <a:ea typeface="Arial"/>
              </a:rPr>
              <a:t>to the information presen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ffffff"/>
                </a:solidFill>
                <a:latin typeface="Franklin Gothic Book"/>
              </a:rPr>
              <a:t>1936 Berlin Olympics</a:t>
            </a:r>
            <a:endParaRPr b="0" lang="en-US" sz="4600" spc="-1" strike="noStrike">
              <a:solidFill>
                <a:srgbClr val="ffffff"/>
              </a:solidFill>
              <a:latin typeface="Franklin Gothic Book"/>
            </a:endParaRPr>
          </a:p>
        </p:txBody>
      </p:sp>
      <p:sp>
        <p:nvSpPr>
          <p:cNvPr id="263" name=""/>
          <p:cNvSpPr txBox="1"/>
          <p:nvPr/>
        </p:nvSpPr>
        <p:spPr>
          <a:xfrm>
            <a:off x="456840" y="3929040"/>
            <a:ext cx="7467480" cy="2571840"/>
          </a:xfrm>
          <a:prstGeom prst="rect">
            <a:avLst/>
          </a:prstGeom>
          <a:noFill/>
          <a:ln w="0">
            <a:noFill/>
          </a:ln>
        </p:spPr>
        <p:txBody>
          <a:bodyPr lIns="90000" rIns="90000" tIns="46800" bIns="46800"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    </a:t>
            </a:r>
            <a:r>
              <a:rPr b="0" lang="en-NZ" sz="3000" spc="-1" strike="noStrike">
                <a:solidFill>
                  <a:srgbClr val="ffffff"/>
                </a:solidFill>
                <a:latin typeface="Arial"/>
              </a:rPr>
              <a:t>A Nazi Rally</a:t>
            </a:r>
            <a:endParaRPr b="0" lang="en-US" sz="30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c8c3"/>
                </a:solidFill>
                <a:uFillTx/>
                <a:latin typeface="Arial"/>
                <a:hlinkClick r:id="rId1"/>
              </a:rPr>
              <a:t>http://tw.youtube.com/watch?v=jIF6hOy5LNg</a:t>
            </a:r>
            <a:endParaRPr b="0" lang="en-US" sz="28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4" name="TextBox 3"/>
          <p:cNvSpPr/>
          <p:nvPr/>
        </p:nvSpPr>
        <p:spPr>
          <a:xfrm>
            <a:off x="571680" y="1857240"/>
            <a:ext cx="778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c8c3"/>
                </a:solidFill>
                <a:uFillTx/>
                <a:latin typeface="Arial"/>
                <a:hlinkClick r:id="rId2"/>
              </a:rPr>
              <a:t>http://tw.youtube.com/watch?v=XXIe5GbLSUs</a:t>
            </a:r>
            <a:endParaRPr b="0" lang="en-US" sz="2800" spc="-1" strike="noStrike">
              <a:solidFill>
                <a:srgbClr val="ffffff"/>
              </a:solidFill>
              <a:latin typeface="Arial"/>
            </a:endParaRPr>
          </a:p>
        </p:txBody>
      </p:sp>
      <p:sp>
        <p:nvSpPr>
          <p:cNvPr id="265" name="TextBox 4"/>
          <p:cNvSpPr/>
          <p:nvPr/>
        </p:nvSpPr>
        <p:spPr>
          <a:xfrm>
            <a:off x="642960" y="2643120"/>
            <a:ext cx="7358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AS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Give reasons why Hitler may not have awarded Jesse Owens his gold med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99680" y="856800"/>
            <a:ext cx="7467480" cy="464364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7" name=""/>
          <p:cNvSpPr txBox="1"/>
          <p:nvPr/>
        </p:nvSpPr>
        <p:spPr>
          <a:xfrm>
            <a:off x="456840" y="428760"/>
            <a:ext cx="7467480" cy="569736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Study the following Propaganda posters after each one write down whether it relates to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Censorship</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Avti-Semitism</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Youth and Educa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Support for the wa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The Economy</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Hitler’s Foreign Policy</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0" y="274680"/>
            <a:ext cx="4114800" cy="47260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ff"/>
                </a:solidFill>
                <a:latin typeface="Franklin Gothic Book"/>
              </a:rPr>
              <a:t>This poster probably comes from the mid-1930's. The caption: "Hitler is building. Help him. Buy German goods."</a:t>
            </a:r>
            <a:endParaRPr b="0" lang="en-US" sz="4100" spc="-1" strike="noStrike">
              <a:solidFill>
                <a:srgbClr val="ffffff"/>
              </a:solidFill>
              <a:latin typeface="Franklin Gothic Book"/>
            </a:endParaRPr>
          </a:p>
        </p:txBody>
      </p:sp>
      <p:pic>
        <p:nvPicPr>
          <p:cNvPr id="269" name="" descr=""/>
          <p:cNvPicPr/>
          <p:nvPr/>
        </p:nvPicPr>
        <p:blipFill>
          <a:blip r:embed="rId1"/>
          <a:stretch/>
        </p:blipFill>
        <p:spPr>
          <a:xfrm>
            <a:off x="456840" y="4000680"/>
            <a:ext cx="2328840" cy="2125440"/>
          </a:xfrm>
          <a:prstGeom prst="rect">
            <a:avLst/>
          </a:prstGeom>
          <a:ln w="0">
            <a:noFill/>
          </a:ln>
        </p:spPr>
      </p:pic>
      <p:pic>
        <p:nvPicPr>
          <p:cNvPr id="270" name="Picture 2" descr="http://www.calvin.edu/academic/cas/gpa/posters/kauft.jpg"/>
          <p:cNvPicPr/>
          <p:nvPr/>
        </p:nvPicPr>
        <p:blipFill>
          <a:blip r:embed="rId2"/>
          <a:stretch/>
        </p:blipFill>
        <p:spPr>
          <a:xfrm>
            <a:off x="642960" y="785880"/>
            <a:ext cx="295272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071680" y="274320"/>
            <a:ext cx="3614760" cy="52974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Franklin Gothic Book"/>
              </a:rPr>
              <a:t>This poster promoted education. The caption: "Adolf Hitler's youth attends community schools.“ Probably the mid-1930's. Courtesy of Dr. Robert D. Brooks.</a:t>
            </a:r>
            <a:endParaRPr b="0" lang="en-US" sz="2800" spc="-1" strike="noStrike">
              <a:solidFill>
                <a:srgbClr val="ffffff"/>
              </a:solidFill>
              <a:latin typeface="Franklin Gothic Book"/>
            </a:endParaRPr>
          </a:p>
        </p:txBody>
      </p:sp>
      <p:pic>
        <p:nvPicPr>
          <p:cNvPr id="272" name="" descr=""/>
          <p:cNvPicPr/>
          <p:nvPr/>
        </p:nvPicPr>
        <p:blipFill>
          <a:blip r:embed="rId1"/>
          <a:stretch/>
        </p:blipFill>
        <p:spPr>
          <a:xfrm>
            <a:off x="457200" y="4285800"/>
            <a:ext cx="1828800" cy="1839960"/>
          </a:xfrm>
          <a:prstGeom prst="rect">
            <a:avLst/>
          </a:prstGeom>
          <a:ln w="0">
            <a:noFill/>
          </a:ln>
        </p:spPr>
      </p:pic>
      <p:pic>
        <p:nvPicPr>
          <p:cNvPr id="273" name="Picture 2" descr="http://www.calvin.edu/academic/cas/gpa/posters/schule.jpg"/>
          <p:cNvPicPr/>
          <p:nvPr/>
        </p:nvPicPr>
        <p:blipFill>
          <a:blip r:embed="rId2"/>
          <a:stretch/>
        </p:blipFill>
        <p:spPr>
          <a:xfrm>
            <a:off x="714240" y="428760"/>
            <a:ext cx="4191120" cy="594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43280" y="274680"/>
            <a:ext cx="4043520" cy="55116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Franklin Gothic Book"/>
              </a:rPr>
              <a:t>This 1938 poster was issued shortly after the </a:t>
            </a:r>
            <a:r>
              <a:rPr b="0" i="1" lang="en-NZ" sz="2800" spc="-1" strike="noStrike">
                <a:solidFill>
                  <a:srgbClr val="ffffff"/>
                </a:solidFill>
                <a:latin typeface="Franklin Gothic Book"/>
              </a:rPr>
              <a:t>Anschluss </a:t>
            </a:r>
            <a:r>
              <a:rPr b="0" lang="en-NZ" sz="2800" spc="-1" strike="noStrike">
                <a:solidFill>
                  <a:srgbClr val="ffffff"/>
                </a:solidFill>
                <a:latin typeface="Franklin Gothic Book"/>
              </a:rPr>
              <a:t>with Austria. The caption: "One People, One Reich, One Führer."</a:t>
            </a:r>
            <a:endParaRPr b="0" lang="en-US" sz="2800" spc="-1" strike="noStrike">
              <a:solidFill>
                <a:srgbClr val="ffffff"/>
              </a:solidFill>
              <a:latin typeface="Franklin Gothic Book"/>
            </a:endParaRPr>
          </a:p>
        </p:txBody>
      </p:sp>
      <p:pic>
        <p:nvPicPr>
          <p:cNvPr id="275" name="" descr=""/>
          <p:cNvPicPr/>
          <p:nvPr/>
        </p:nvPicPr>
        <p:blipFill>
          <a:blip r:embed="rId1"/>
          <a:stretch/>
        </p:blipFill>
        <p:spPr>
          <a:xfrm>
            <a:off x="285840" y="1600200"/>
            <a:ext cx="171360" cy="4525920"/>
          </a:xfrm>
          <a:prstGeom prst="rect">
            <a:avLst/>
          </a:prstGeom>
          <a:ln w="0">
            <a:noFill/>
          </a:ln>
        </p:spPr>
      </p:pic>
      <p:pic>
        <p:nvPicPr>
          <p:cNvPr id="276" name="Picture 2" descr="http://www.calvin.edu/academic/cas/gpa/posters/hitler1.jpg"/>
          <p:cNvPicPr/>
          <p:nvPr/>
        </p:nvPicPr>
        <p:blipFill>
          <a:blip r:embed="rId2"/>
          <a:stretch/>
        </p:blipFill>
        <p:spPr>
          <a:xfrm>
            <a:off x="428760" y="642960"/>
            <a:ext cx="3657600" cy="513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714560" y="274680"/>
            <a:ext cx="3971880" cy="55116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Franklin Gothic Book"/>
              </a:rPr>
              <a:t>The text of this </a:t>
            </a:r>
            <a:r>
              <a:rPr b="0" lang="en-NZ" sz="3100" spc="-1" strike="noStrike">
                <a:solidFill>
                  <a:srgbClr val="ffffff"/>
                </a:solidFill>
                <a:latin typeface="Franklin Gothic Book"/>
              </a:rPr>
              <a:t>1940 poster reads: "Youth Serves the Führer. All 10-year-olds into the Hitler Youth." Membership in the Hitler Youth had become mandatory in 1936.</a:t>
            </a:r>
            <a:endParaRPr b="0" lang="en-US" sz="3100" spc="-1" strike="noStrike">
              <a:solidFill>
                <a:srgbClr val="ffffff"/>
              </a:solidFill>
              <a:latin typeface="Franklin Gothic Book"/>
            </a:endParaRPr>
          </a:p>
        </p:txBody>
      </p:sp>
      <p:pic>
        <p:nvPicPr>
          <p:cNvPr id="278" name="" descr=""/>
          <p:cNvPicPr/>
          <p:nvPr/>
        </p:nvPicPr>
        <p:blipFill>
          <a:blip r:embed="rId1"/>
          <a:stretch/>
        </p:blipFill>
        <p:spPr>
          <a:xfrm>
            <a:off x="457200" y="1600200"/>
            <a:ext cx="1185840" cy="4525920"/>
          </a:xfrm>
          <a:prstGeom prst="rect">
            <a:avLst/>
          </a:prstGeom>
          <a:ln w="0">
            <a:noFill/>
          </a:ln>
        </p:spPr>
      </p:pic>
      <p:pic>
        <p:nvPicPr>
          <p:cNvPr id="279" name="Picture 2" descr="http://www.calvin.edu/academic/cas/gpa/posters/hj.jpg"/>
          <p:cNvPicPr/>
          <p:nvPr/>
        </p:nvPicPr>
        <p:blipFill>
          <a:blip r:embed="rId2"/>
          <a:stretch/>
        </p:blipFill>
        <p:spPr>
          <a:xfrm>
            <a:off x="428760" y="500040"/>
            <a:ext cx="3848040" cy="551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04:19:34Z</dcterms:created>
  <dc:creator>Rachel</dc:creator>
  <dc:description/>
  <dc:language>en-US</dc:language>
  <cp:lastModifiedBy>Rachel</cp:lastModifiedBy>
  <dcterms:modified xsi:type="dcterms:W3CDTF">2008-09-14T09:47:10Z</dcterms:modified>
  <cp:revision>7</cp:revision>
  <dc:subject/>
  <dc:title>IGCSE HISTORY</dc:title>
</cp:coreProperties>
</file>